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448-C4C7-4AAD-BC5F-2C823D68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499-C32E-430D-9A6F-8AF15A82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412-922A-4E56-9B05-F945DD9E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E91-976A-47EF-BBFB-E32383CF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052-CFA5-4120-A719-2A80C82D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6F6-81DB-4944-8657-5B3B9183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00AC-3FF9-4519-AAAD-1E8DD75C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578-0041-4149-BDCA-5F76EB4F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41B-0CBD-4D85-85F4-FDC4C466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829-6179-447C-948B-608C79A9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63D-E3EA-4FAE-A634-47361518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68C-7394-4BD0-B7F9-F4FA089B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EA5F-A8BB-4F6A-A609-7344E5D43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307200" cy="662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48769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 Andreski               De La Salle 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52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0.0111 L 0.50833 0.0111 E">
                                      <p:cBhvr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’re really solving for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but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in a formul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e don’t know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, let’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lve for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ill tell us the time it takes for the object to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Long Does It Take to F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32763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lling time depends on falling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a formula that solves for time and uses displacement and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 = ½ at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but since this is motion in 2-d, let’s call this displacement a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½ a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100. = ½ (9.81) (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20.4;  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t = 4.52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747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initial velo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l velocity is v in the x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we can solve for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.0 = v (4.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19.9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74788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51055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rue about v in the x direction each moment that this object  is fal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w, work in small quiet groups on the problems on side 1 of the hand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 2 – Projectiles launched at an angl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ther than 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evious section addressed projectiles launched at zero (horizo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projectiles are launched at an angle, you must use trigonometry (soh cah toa) to resolve for the component vectors that make up the resulting m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ualizing Projecti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39200" cy="4815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14600" y="3733920"/>
            <a:ext cx="32767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Note that although there is no v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at the top of the path, there is v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and the object is continually affected by a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Arial"/>
              </a:rPr>
              <a:t>g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038480" y="190512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ever see a projectile problem that ask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What is the v at the projectile’s maximum he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nswer 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ways be the same as your answer for v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ince @ max. height there i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only 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of projectile motion of objects launched at an angle as an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infinite number of vector diagrams with their resultants adding togeth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form an overall trajecto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jectiles launched at an 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230480"/>
            <a:ext cx="8610480" cy="5456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00400" y="1905120"/>
            <a:ext cx="20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hough the object does not follow this path, the mathematical relationships are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rojectile is fired at an angle of 30.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the horizontal at a velocity of 39.2 m/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, solve for 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4714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.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jectile Mo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refers to the motion of an object that is projected into the air at an ang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hat angle can be zero!) We assume this occurs near the earth’s surface so “g” is constant at -9.81 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re NOT concerned with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cess of throw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 it’s project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happens after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ve for v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si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opp/hy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 30.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/ 3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00 =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/ 3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19.6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43434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419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ve for v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5334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cos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adj / hyp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 30.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/ 39.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866 = 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/ 39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33.9 m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24280" y="2585880"/>
            <a:ext cx="42674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343400" cy="4106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the max. height reach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height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’ll be using the formula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 + ½ at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you must first find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 = -2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/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(Important formula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= -2 (19.6) / -9.81; t = 4.0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that represents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tal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max. height occurs at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idpoint, which occurs at ½ the total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so divide the time by 2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1752480"/>
            <a:ext cx="533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781320" y="205740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120" y="4495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But we still haven’t finish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the Maximum He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562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. height can be called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v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 + ½ at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you don’t use 4.00s, use 2.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9.6(2.00) + (-4.91)(2.00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Arial"/>
              </a:rPr>
              <a:t>19.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 with the signs! “a” must be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-9.81 m/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you’ll be quite a bit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more ques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715000" y="1295280"/>
            <a:ext cx="31240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the maximum r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ge of course is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v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33.9 (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ust use 4.00 since the range is achieved after the whole trip has been m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Arial"/>
              </a:rPr>
              <a:t>13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80988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Arial"/>
              </a:rPr>
              <a:t>Now, work in small quiet groups to solve the problems on “Projectile Motion – Launched at an Angle”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je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3200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. Trajec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name we give the path a projectile 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4864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6.24595E-006 C 0.00347 -0.01411 0.01111 -0.02567 0.01562 -0.03907 C 0.01909 -0.04971 0.02118 -0.06034 0.02552 -0.07051 C 0.03194 -0.08507 0.04114 -0.09663 0.04896 -0.10958 C 0.05191 -0.11443 0.05416 -0.11998 0.05677 -0.1253 C 0.05833 -0.1283 0.06094 -0.13038 0.06267 -0.13315 C 0.07031 -0.14494 0.07795 -0.15604 0.08628 -0.16714 C 0.08802 -0.16945 0.08837 -0.17291 0.0901 -0.17499 C 0.10451 -0.19395 0.09219 -0.17176 0.10382 -0.19048 C 0.10538 -0.19303 0.10607 -0.19626 0.10781 -0.19834 C 0.11146 -0.2025 0.11632 -0.20435 0.11962 -0.20874 C 0.12222 -0.21221 0.12448 -0.21637 0.12743 -0.21938 C 0.13107 -0.22331 0.13923 -0.22978 0.13923 -0.22978 C 0.14618 -0.24388 0.13906 -0.23325 0.14896 -0.24018 C 0.15885 -0.24735 0.16597 -0.25659 0.17639 -0.26099 C 0.18455 -0.26954 0.196 -0.2804 0.2059 -0.28456 C 0.21875 -0.29612 0.23298 -0.30028 0.24705 -0.30814 C 0.25243 -0.31115 0.25746 -0.31508 0.26267 -0.31855 C 0.2651 -0.32016 0.26788 -0.31993 0.27048 -0.32109 C 0.28628 -0.32802 0.29896 -0.3338 0.31562 -0.33681 C 0.34826 -0.33403 0.37969 -0.32687 0.4118 -0.31855 C 0.42222 -0.31577 0.43298 -0.31485 0.44305 -0.31069 C 0.45816 -0.30468 0.47291 -0.29474 0.48819 -0.28988 C 0.5026 -0.27879 0.51562 -0.26561 0.52934 -0.25313 C 0.5375 -0.24573 0.54323 -0.23648 0.55295 -0.23232 C 0.56267 -0.22238 0.57257 -0.21129 0.5842 -0.2062 C 0.59496 -0.19487 0.60625 -0.18517 0.61753 -0.17499 C 0.63368 -0.16066 0.62118 -0.16714 0.63333 -0.16182 C 0.63784 -0.15743 0.64288 -0.15373 0.64705 -0.14887 C 0.65469 -0.14009 0.65903 -0.12876 0.66666 -0.11998 C 0.68073 -0.10403 0.69288 -0.08785 0.70382 -0.06797 C 0.70868 -0.04947 0.72413 -0.03075 0.73333 -0.01573 C 0.74045 -0.00417 0.74201 0.00508 0.75087 0.01317 C 0.75816 0.03236 0.75069 0.01548 0.76076 0.03143 C 0.76232 0.03374 0.76475 0.03929 0.76475 0.03929 E"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.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escribed by Galileo, who sai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 object projected horizontally will reach the ground at the same time as an object dropped vertical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analyze 2 components of motion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horizontal (the 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compon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vertical (the 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compon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MO – “Newton’s Law Apparatu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78024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121932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spring-tension bar is held back by a lever. When the lever is pushed, the bar moves forward. Sphere “A” falls at the same moment sphere “B” is projected for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438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                                 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956E-006 L -3.33333E-006 0.52174 E">
                                      <p:cBhvr>
                                        <p:cTn id="93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093 -0.00462 0.02517 0.00694 0.03628 0.00972 C 0.04913 0.02128 0.06649 0.02313 0.08125 0.02706 C 0.09218 0.03007 0.10243 0.03515 0.11319 0.03862 C 0.11944 0.04279 0.12517 0.04626 0.13194 0.04834 C 0.13576 0.05088 0.13975 0.05366 0.14357 0.0562 C 0.14635 0.05805 0.15225 0.0599 0.15225 0.0599 C 0.15364 0.06129 0.15503 0.06268 0.15659 0.06383 C 0.15798 0.06476 0.15954 0.06476 0.16093 0.06568 C 0.16736 0.07054 0.17152 0.07609 0.17829 0.07933 C 0.18628 0.08765 0.19479 0.09459 0.20295 0.10245 C 0.21007 0.10916 0.20694 0.10662 0.21319 0.11217 C 0.21458 0.11332 0.21753 0.11587 0.21753 0.11587 C 0.22135 0.12373 0.22673 0.12928 0.23194 0.13529 C 0.23507 0.13899 0.23802 0.14269 0.24062 0.14686 C 0.24253 0.15009 0.24427 0.15356 0.24652 0.15657 C 0.25295 0.1649 0.26059 0.17253 0.26666 0.18155 C 0.26944 0.18571 0.27152 0.19057 0.27395 0.19519 C 0.27951 0.2056 0.2875 0.21346 0.29288 0.2241 C 0.29843 0.2352 0.30034 0.24815 0.3059 0.25879 C 0.30816 0.26781 0.31597 0.284 0.31597 0.284 C 0.31823 0.2951 0.32239 0.30574 0.3276 0.31476 C 0.33125 0.33025 0.33975 0.34367 0.34357 0.35916 C 0.34635 0.37095 0.34878 0.38252 0.35225 0.39385 C 0.35451 0.41004 0.35937 0.426 0.36232 0.44218 C 0.36336 0.44727 0.36527 0.45768 0.36527 0.45768 C 0.36614 0.46786 0.3677 0.47803 0.36823 0.48844 C 0.36892 0.5 0.36961 0.52336 0.36961 0.52336 E">
                                      <p:cBhvr>
                                        <p:cTn id="95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mo – Motion in 2 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give the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sp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even greater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99308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28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his green ball is dropp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0574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t the same time this yellow ball is “flicked”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057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and at the same time this purple ball is sh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21932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he first ball has only a vertical velocit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1219320"/>
            <a:ext cx="20574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second ball has a small v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and the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ame v</a:t>
            </a:r>
            <a:r>
              <a:rPr b="1" i="1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as the green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1752480"/>
            <a:ext cx="3124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he third ball has a larger v</a:t>
            </a:r>
            <a:r>
              <a:rPr b="1" lang="en-US" sz="1800" spc="-1" strike="noStrike" baseline="-25000">
                <a:solidFill>
                  <a:srgbClr val="80008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 and the </a:t>
            </a: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same v</a:t>
            </a:r>
            <a:r>
              <a:rPr b="1" i="1" lang="en-US" sz="1800" spc="-1" strike="noStrike" baseline="-25000">
                <a:solidFill>
                  <a:srgbClr val="800080"/>
                </a:solidFill>
                <a:latin typeface="Arial"/>
              </a:rPr>
              <a:t>y</a:t>
            </a: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 as the other two b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8183520" cy="3876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8120" y="4495680"/>
            <a:ext cx="2819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Notice that the instantaneous v</a:t>
            </a:r>
            <a:r>
              <a:rPr b="1" i="1" lang="en-US" sz="1800" spc="-1" strike="noStrike" baseline="-25000">
                <a:solidFill>
                  <a:srgbClr val="008000"/>
                </a:solidFill>
                <a:latin typeface="Arial"/>
              </a:rPr>
              <a:t>y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is the same for each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837720" y="160020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371240" y="182880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14240" y="23623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5486400"/>
            <a:ext cx="2895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Notice that v</a:t>
            </a:r>
            <a:r>
              <a:rPr b="1" i="1" lang="en-US" sz="1800" spc="-1" strike="noStrike" baseline="-25000">
                <a:solidFill>
                  <a:srgbClr val="0066ff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 for a ball is the same throug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2819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One more thing…the red line here shows the vector RESULTANT of the blue and green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ving Projectile Motion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ze horizontal and vertical component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par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ver chan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roughout the traj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e are generally 2-par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4648320"/>
            <a:ext cx="65530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Did you catch that?  v</a:t>
            </a:r>
            <a:r>
              <a:rPr b="1" i="1" lang="en-US" sz="36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 never changes throughout the trajector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ock is kicked horizontally from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0. 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igh cliff. It strikes the level groun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0.0 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rom the base of the cliff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t what speed was it th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514760" cy="5257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791320" y="1676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97 -0.00694 0.02535 0.01456 0.03924 0.02104 C 0.0474 0.02936 0.05608 0.03282 0.06476 0.0393 C 0.07344 0.04577 0.07917 0.05317 0.0882 0.05756 C 0.0908 0.0601 0.09323 0.06334 0.09601 0.06542 C 0.09774 0.0668 0.10018 0.06657 0.10191 0.06796 C 0.11181 0.07582 0.11858 0.08645 0.12934 0.09154 C 0.1342 0.10957 0.14219 0.12367 0.15104 0.13846 C 0.16181 0.1565 0.17066 0.17684 0.18038 0.19579 C 0.18559 0.20619 0.1908 0.21683 0.19601 0.22723 C 0.1974 0.22977 0.19861 0.23255 0.2 0.23509 C 0.20139 0.23763 0.20399 0.24295 0.20399 0.24295 C 0.20625 0.25266 0.21563 0.26907 0.21563 0.26907 C 0.21702 0.27416 0.21771 0.2797 0.21962 0.28456 C 0.22188 0.29011 0.22743 0.30028 0.22743 0.30028 C 0.23264 0.32154 0.2375 0.34281 0.24514 0.36292 C 0.24965 0.38719 0.25434 0.411 0.26268 0.43343 C 0.26736 0.46278 0.27639 0.49006 0.28038 0.51965 C 0.28247 0.53514 0.28507 0.57466 0.28629 0.58229 C 0.28958 0.60448 0.28837 0.59593 0.29219 0.62922 C 0.29288 0.63523 0.29271 0.6417 0.2941 0.64748 C 0.29479 0.65002 0.29601 0.65534 0.29601 0.65534 E">
                                      <p:cBhvr>
                                        <p:cTn id="22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2:10:47Z</dcterms:created>
  <dc:creator>andreskim</dc:creator>
  <dc:description/>
  <dc:language>en-US</dc:language>
  <cp:lastModifiedBy>andreskim</cp:lastModifiedBy>
  <dcterms:modified xsi:type="dcterms:W3CDTF">2006-09-22T19:07:24Z</dcterms:modified>
  <cp:revision>177</cp:revision>
  <dc:subject/>
  <dc:title>NOTES - EQUATIONS I. GENERAL INFO -  chem equations are expressions of reactions (rxns)  they consist of 2 parts: REACTANTS -----------&gt; PRODUCTS                         left            "yields"       right  ie: lead (II) nitrate and potassium iodide react together to form         lead (II) iodide and potassium nitrate    Pb(NO3)2       +      KI     -----&gt;      PbI2    +    KNO3 </dc:title>
</cp:coreProperties>
</file>